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239-6EA6-46A9-92DC-B82A0DEC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808-695B-4323-904C-F3E72F3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1B7-E56E-493A-B4D4-DBF855FF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B3E-D3B3-4517-A67F-F4C6800C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AF9-2D7B-4CAF-B1AE-5EE935DF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2BE-9B8D-4344-B5D6-953E2FFC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AA1-CB7F-4D34-ACDD-25D5C6AB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ACE-BC3B-4943-A2A5-C5772B25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1E5-2B51-4010-AAA1-364A0120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A72-12FC-4C79-9F11-E954D15A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D5F-4609-4134-BF95-2B112A2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B61-5A95-4836-B652-2FD12760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20C0-000C-4150-8966-56B2DFF504E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Plate Boundari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erva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0.static.wix.com/media/caf82be5173cd8fb97b1976e06f7d700.wix_mp"/>
          <p:cNvPicPr/>
          <p:nvPr/>
        </p:nvPicPr>
        <p:blipFill>
          <a:blip r:embed="rId1"/>
          <a:stretch/>
        </p:blipFill>
        <p:spPr>
          <a:xfrm>
            <a:off x="1908000" y="1268280"/>
            <a:ext cx="52563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llision Mar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ere two continental crusts collide neither can sink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stead they push into each other forcing material to be folded up into huge mountain rang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ften this movement and pressure can cause earthquakes, but no volcanoes will occur on these boundari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best example is found where the Indian plate collided with the Eurasian plate to form the Himalaya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llision Mar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classroomatsea.net/resources/posters/images/collision.jpg"/>
          <p:cNvPicPr/>
          <p:nvPr/>
        </p:nvPicPr>
        <p:blipFill>
          <a:blip r:embed="rId1"/>
          <a:stretch/>
        </p:blipFill>
        <p:spPr>
          <a:xfrm>
            <a:off x="1619280" y="2205000"/>
            <a:ext cx="59770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struc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known a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vergent boundar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compressional bounda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ause violent volcanoes and earthquakes, as well as deep-ocean trenches and fold mountai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oceanic plate and continental plate move towards each 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nser oceanic plate dives under the lighter continental one, creating a deep ocean tren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struc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s the oceanic plate goes deeper into mantle it melts in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ubduction zone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due to friction and the increased temperatur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newly molten rock is lighter that that which surrounds it, so it will rise towards the surface and cause volcanoes on the earth's surfac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continental crust is crumpled by the collision of the two plates creating Fold Mountain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f the magma rises offshore it will form an Island Arc, like the West Indies and Japa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5300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example of a destructive plate boundary is where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z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te dives underneath the South American plate. This has caused volcanoes, earthquakes and the formation of the Andes Mountain R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4.bp.blogspot.com/_QyvQdYRsWp4/Sd5FnMeLMYI/AAAAAAAAAGQ/7yq6zq91ng8/s320/convergent_boundaries.gif"/>
          <p:cNvPicPr/>
          <p:nvPr/>
        </p:nvPicPr>
        <p:blipFill>
          <a:blip r:embed="rId1"/>
          <a:stretch/>
        </p:blipFill>
        <p:spPr>
          <a:xfrm>
            <a:off x="1344600" y="31680"/>
            <a:ext cx="640872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so known as divergent or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tensional boundari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though often not as violent as those on destructive plate boundaries, volcanoes and earthquakes do occur on constructive plate boundari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y also cause mid-ocean ridges to form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wo plates move away from each othe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olten rock (magma) rises from the mantle to fill the gap between the two plat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forms a mid-ocean ridg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Volcanoes can also form here, along the edges of the plate boundary, due to the rising magma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volcanoes are called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shield volcano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 good example of a constructive plate boundary can be found where the North American plate is moving away from the Eurasian plat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has caused the Mid-Atlantic ridge to form and has created Iceland through volcanic activit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ve Plate Bound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revisionworld.co.uk/files/seafloor.jpg"/>
          <p:cNvPicPr/>
          <p:nvPr/>
        </p:nvPicPr>
        <p:blipFill>
          <a:blip r:embed="rId1"/>
          <a:stretch/>
        </p:blipFill>
        <p:spPr>
          <a:xfrm>
            <a:off x="179280" y="1700280"/>
            <a:ext cx="875988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erva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known as passiv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te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effects of a conservative plate boundary are earthquakes, which can be fairly violent and freq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plates slide past each other, without creating or destroying any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erva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y move past each other they often get stuck, building up great pressure until finally they jolt past each 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udden movement is what causes earthquak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-known example of a conservative plate boundary is the San Andreas Fault, where the North American and Pacific plates are actually moving in the same direction, but at a different sp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4:21:55Z</dcterms:created>
  <dc:creator>Dell_02</dc:creator>
  <dc:description/>
  <dc:language>en-US</dc:language>
  <cp:lastModifiedBy>Dell_02</cp:lastModifiedBy>
  <dcterms:modified xsi:type="dcterms:W3CDTF">2011-01-26T05:21:24Z</dcterms:modified>
  <cp:revision>3</cp:revision>
  <dc:subject/>
  <dc:title>Plate Boundaries</dc:title>
</cp:coreProperties>
</file>